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314C-774A-465C-B115-C124C0B041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32E6-D207-435A-A9D8-ACD73BA0A6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8760-61CE-4D6F-91B1-851EC63D4B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4236-9532-461B-B065-5D97F3E21E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33C4-013E-4B61-9652-4062397918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8048-2089-4401-BD24-51D8706AF4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742E-FCC3-4B35-BCC2-33B58CA4DE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4CB3-8C55-4B8A-A436-BC14F3B933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6B02-135A-4BB3-8173-D1436E8C60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A393-C007-46F8-AABA-0B8A3EDF6B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B13D-33E3-4C25-B033-06E8975D10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0110-59E1-4B9A-A8D7-AA65A43503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BEBD-AA7F-410C-87A6-F3898DD2D3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0356-7C22-4B97-BBEB-39A0C254036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4E46-23CC-4AB1-91C4-4681375508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1780-439A-4B29-9673-68C77A8554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8AD1-F07F-4705-BDE6-C108E535B1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4938-D046-4253-9C8F-7A56268222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0AC7-D633-48C2-8E8C-C274EBDCC7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B503-4BB3-452F-A21E-EF53B5F50B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5424-AD98-4EB6-8BCE-08AE585AAC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091-F32E-4416-BA5E-0A61C51C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5A6-AEF7-4566-BE50-F4B89C1C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D70-5E26-445B-9FB4-357DA585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C37-7C52-4DE2-B7B7-A025FB34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77A-643E-41F2-B17F-D5209FE7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3D8-3A87-4A3C-A0E6-81AF8CA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8BE-F17D-43C2-B55A-7874C383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6DBD-428E-4046-8EA2-F3E89532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5C6-A2C9-4EB4-A3F3-2EC33F61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15C-ABF9-489F-A8CC-2B703243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075-DCFD-4951-9139-0EA60813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AED-98E4-4E7C-8BEB-0D2F3B78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FD91-5E0E-4A1C-A671-D5D672E97C49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感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ǎnxi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고맙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电子邮件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805440"/>
            <a:ext cx="6264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diànzǐyóujià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健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jiànkā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건강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画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à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연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暑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ǔji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름방학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国庆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76692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Guóqìng Ji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국경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进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ìn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향상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一路平安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yílùpíng'ā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가는 길이 평안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梦想成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01272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mèngxiǎngchéngzhē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꿈이 실현되다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xi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다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万事如意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5786640"/>
            <a:ext cx="62643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Arial"/>
              </a:rPr>
              <a:t>wànshì rúyì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59920" y="521604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</a:rPr>
              <a:t>모든 일이 뜻대로 이루어지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以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ǐh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ě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에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生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shēnghuó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생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愉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úku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유쾌하다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즐겁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流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iúl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유창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1:20:06Z</dcterms:created>
  <dc:creator>System</dc:creator>
  <dc:description/>
  <dc:language>en-US</dc:language>
  <cp:lastModifiedBy>System</cp:lastModifiedBy>
  <dcterms:modified xsi:type="dcterms:W3CDTF">2014-01-27T02:01:24Z</dcterms:modified>
  <cp:revision>5</cp:revision>
  <dc:subject/>
  <dc:title>슬라이드 1</dc:title>
</cp:coreProperties>
</file>